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8E52-7D00-4D69-A362-F1198951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E8B8-0899-4B1A-ADF6-16DC6A40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976C-95A6-483D-8D6D-D744DF1A7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88E4-8283-4563-859D-00FD55E7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334A-D38C-490C-ACE6-556635B7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2162-563E-4D3C-B441-98421F4E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D402-3652-4DC7-8A84-1CD77010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A584-240A-41A9-B301-C748DAE1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F310-D0B7-4B30-827F-570CC739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CF25-ABD1-494F-88BF-467AD291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8E16-7BC2-460F-ADD3-34CFC7AF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9755-EAF6-4B80-8BD7-6EAEDADB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FB44-3847-4DAB-AF72-8C2DFB86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A46F-5EB6-4E43-B88A-5626251D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F101-0A2E-4510-98DD-22D64F98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719F-C7CB-47E9-8A96-1C72B01C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F604-735C-48A4-938D-19B72706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5C3B-834B-4F33-A365-6324106D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1E6D-AEAB-4000-A9AF-BD5FD170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9367-8FF2-4BC5-B5B9-6FC056AB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189F-2982-4C78-B3EA-08F29688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7B73-AA34-41F4-B9B7-13AD7437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275C-6140-4EFC-9D96-D0928E44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05AB-FB55-45AD-8B74-913FF5FD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7C5C-4C17-4164-9634-64CB5089AC61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B775-06F3-4A5A-9704-529C7BA2AE7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Reaganomic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To what extent was Reaganomics effective in stimulating the economy and solving the nation's problems? Include positive and negative effects.</a:t>
            </a:r>
            <a:br>
              <a:rPr sz="4400"/>
            </a:br>
            <a:br>
              <a:rPr sz="4400"/>
            </a:b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uke M. Swomley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Pro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d Inf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% tax re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est Rates f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Pro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mployment decrea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s government spend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Pro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conomy increased by 1/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porate tax cuts set precedent for later presid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ome raised by 18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bt nearly tripl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k Failu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e deficit quadrupl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e barriers enacted which hurt econom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w legislation on health, safety, environm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ised inc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west 20% prospered not suff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le class shouldered the majority of the tax bur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3:41:06Z</dcterms:created>
  <dc:creator>PA Department of Education</dc:creator>
  <dc:description/>
  <dc:language>en-US</dc:language>
  <cp:lastModifiedBy>PA Department of Education</cp:lastModifiedBy>
  <dcterms:modified xsi:type="dcterms:W3CDTF">2008-05-30T14:23:30Z</dcterms:modified>
  <cp:revision>6</cp:revision>
  <dc:subject/>
  <dc:title>Reaganomics To what extent was Reaganomics effective in stimulating the economy and solving the nation's problems. Include positive and negative effects. Luke M. Swomley  </dc:title>
</cp:coreProperties>
</file>